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E553-7501-46C9-B5F5-22758841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2D52-C6CF-480E-940A-C59248B6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A3FDC-C021-4B69-BC5A-B1DD5988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DD22C-AAF3-4359-A0F0-3419ED9F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6BA96-20A2-48A3-A276-1354321A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C55B7-37E8-4B7F-8199-CD553C78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6DF4D-AEAE-4DEC-8ABF-A6724BD6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9E765-7430-4C31-9986-2924DDF2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B9B29-F350-422A-A47A-A421D933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027DB-4815-482E-8015-DBE4E4AC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37925-E75D-4AD6-9C02-536AE85F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2C590-61DD-4E76-B3B3-CE8C979C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3A56-C773-422C-80AF-594E1EF7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E1C85-B6DE-4F72-B5C6-34CA3B1F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006F8-6B84-47CD-B397-433FD40E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15008-FFF5-4F94-B913-467DC276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2D3C8-4CF9-4043-AA3E-DB36B984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D406F-42C0-41A2-BD58-BAA83595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CBEE8-F723-4F64-A949-E8499A7E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6F405-CCD8-4736-AB50-91EF9529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65F82-AF6C-41D9-B311-15833768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76956-5E99-46FB-BF97-0F06EC60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849AA-E707-406E-B253-735DA879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4960-ACD4-4F3E-BD77-0DA33E6D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B43DB-3B1B-429B-B921-3F7412BC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890B4-7C86-4A4A-868B-C56166C8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8F9CA-4C83-4BE6-BFE2-E14F102E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7799B-65F0-456F-BA26-E777CA77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B293A-A80B-428E-9809-E22F847C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D7561-117C-4C0D-8669-33760A1F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4BB4C-2501-4BC0-9907-B4864327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61867-C1EB-400B-BFAD-E447ACDF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0D2B1-648F-4C08-985F-C4803DD6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1165A-6084-4CAF-829E-381C2DA6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FAB8-F2C7-429C-808C-F4F1D537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80E0E-C7F8-46AE-9732-12F887F3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4A4C9-1376-43A1-B345-701FFA40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0D7AA-2833-4164-9467-F72981BD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08974-0103-4369-961D-8F35C421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DB36B-7579-40A1-B022-3E651686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5BAFE-8ACF-416C-80A3-C0160E70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2F8CB-226E-4A5C-BD50-6AC6CA8A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64164-399D-448C-B69F-E8C0F61A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82CE5-98AF-42A8-AA8A-DC7161C3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99335-9E3B-46FF-B110-B253C80C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8819-911A-41FD-8517-0DCD57D6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9D00A-BC70-4455-8F2E-A2B42C28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FC201-85EB-46A7-A8E7-D7297681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E9D3E-3516-4197-A68F-F4DB37D8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A57A2-1C1B-4B95-894B-CFCB8767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0756B-F089-4EE9-9AC7-6F2F63A9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2A73B5-925D-4F85-B52B-2E5680F4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2B30B1-0F72-4962-8860-41ACEBDB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B54F13-4175-43E2-9AFC-C4C60F28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3F908-066B-4882-9E54-9C8E4FD0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0A226-B5E7-4DCC-8662-FA64A30D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1A8E-36C1-4C5F-8E81-5512F36D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10B6B-4A59-49AB-877E-F05B25D6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0FC55-C62E-4761-82B4-42CA4CEC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68E42D-933C-4CBD-9135-AD2EBF11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3A291E-DC27-4F99-B0A9-75E60E29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54452-DDBB-4703-AA4C-D6401A18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FEC98-6766-4E57-98B9-614245C8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6E6D0F-7A5B-4D1F-B554-A8A1F9FC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EC2CF2-9355-462A-8233-BBEE1EBF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72AFA-558F-42FF-891C-1BA03B90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8CCA33-FA8C-4EAC-96E9-BE5CE312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6D34-111A-40CE-B5E0-CE6FD22D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1C63F4-113A-4299-9C33-363E5B40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93C8B8-126F-4614-AB85-D5FEA351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748303-FEBA-472B-8EE8-C7830009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6DF247-DA39-48B7-9205-944B8338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B11889-14DD-4A96-9C0A-7697A38C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E7DF64-23FA-4FD4-8849-F4F1829C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359166-2FDE-4FC7-8DAA-EFB5A079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F19877-4C42-429D-B975-172166E5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89B948-BDBA-425F-8FEF-C2E3AA3F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711303-ED1C-48FB-9527-73648CD1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730C-8F96-41F6-BAAE-F7FE8D05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C619EB-68B1-4AF3-8E1C-1F2043D6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A3055B-01F0-45B5-B1B2-80B1C36F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86F52B-E6F2-4718-9805-E1D79861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4F9ACD-1756-469A-BBEC-E6F68746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95391E-B5C1-4BB7-9AB7-5C2102C4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7B33A4-CEFA-4D79-80D3-1C1E07E1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ED1869-F5EB-4766-BB67-6E0F5B40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4E9350-B1DD-430B-88E2-21C1BCE3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132FA1-3091-4C94-B7BE-C4FFFC4B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160697-B3C8-4DDF-A28B-2A2444FF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3CC0-3922-46D8-AB5E-6BE73D4E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5DDB44-F075-41E8-AF6B-C018D899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FAA6EA-3E6F-4C20-A907-78624797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805341-4638-497C-8602-8FBD87FA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760BE8-F527-42AC-BDF0-0313162F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F2C269-07B2-40EF-9004-EAB5B2C2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39AF44-066C-4C9F-9FB8-6233311F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EE7554-7722-448E-BE57-E3B6135F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B4CCB3-C5F1-4E20-8ACA-79C213C2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638600-1D1D-4B16-83A5-9CD48947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1FD651-CA0F-4255-9035-2BC923CA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1FE4-8D9A-47A7-85A0-7C7D4725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31EDDA-F191-47E2-A252-51E286BA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76FDD0-3F8C-401C-A0B3-9ED308EC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04F038-6A1F-4B12-8242-68587465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EFB3D5-6EBA-494F-9004-CCCA3B08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B0ADB2-FD24-4E1F-8DE9-E3285229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5F62F5-0354-4AEE-A24B-4D56D69E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CD43FD-CD6F-4198-9324-405B4E63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E9B18D-4041-4BB0-8052-39F40BF1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5777EC-B741-4F4A-8096-8D5737D4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1B7EB2-5714-44B1-9660-4F76ACAC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11AD-29D2-4356-A7E6-024D2060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4026-8638-4872-9857-39B02A06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8768AE-6939-44C9-B22D-0A90A0E9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BA7F69-2B6C-4CC9-AF21-2BBBD98C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47A061-B7FB-4BEE-8D21-3FB620C2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D578F4-8EC9-4DE5-BF07-3C682F59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E74DCC-6362-409E-916B-B59CAE1E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D85009-E4C0-441A-B4F5-FB234518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C0DB98-1EFD-4878-A07F-2CAABD69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AB1FEF-CD07-4E10-8753-CFB80CDD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5CB4B6-CA4B-4895-885B-CC718CA1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06C933-429D-4D39-8719-B2DC2F0D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DBC9-A47F-429A-8977-10444AD4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C66AF9-83FA-4CE5-9847-2572D9B0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D3D631-CBEB-49C1-865C-6685D2B6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5BFEA7-9D97-4594-B2A7-7F69A9ED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07E114-A0B4-4702-B9B6-19D70B89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B01FED-9077-429D-9B4A-87FE881C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B25EA0-B1A2-4E79-803E-7F44730A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EDC272-A9F9-4F8A-BBD4-7654E691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43E8B1-0B47-4120-8BD3-905DDBF7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C6DEE8-9A5B-49F6-BA37-C2B47866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88F270-EEBE-490A-89B1-A440CE57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27F5-939D-4B28-968A-6B96C6C7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620FFC-8040-4A1B-ACDF-D391C5D1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7225DB-9296-4C7A-8F4A-7EA99FF1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B4147B-20C9-49B2-A941-6EECBE18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D57CB9-1BD4-48ED-9A85-EC872085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40D459-6822-4AF0-888C-4ECA9330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654651-CA4A-4436-9703-B50B5954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C25052-EA7D-4B30-8D75-1F0B9769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0AEDBC-37C7-482E-9DAD-33300881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2DEF0A-940A-4DE0-9C3B-F4C3A802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997DB2-AB5C-43A3-A268-F8AB7F72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15AD-B392-4AA9-B385-2C85086D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B1D52B-F637-4B87-BE4C-5D2CB6F3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52B6FE-050E-4268-AF29-98278139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50612C-4699-4F4D-885C-02BB7EF6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29E34E-8D9E-4FB9-BF9C-19B486EA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1550E3-6A35-4BCB-89B2-874ED3BE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C883C2-6F7C-4778-AC72-F03A1D57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BDF29C-78BC-4C41-93C0-8ECC536A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5F80C1-C406-4A1F-B79B-EDC882D0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FAB016-5705-469A-B019-F96081DF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2A1DF5-F164-413B-893B-3A96A7B3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898B-3194-4208-892A-E0A29BA6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EA869E-FFBE-4BA6-B531-C16580F2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5B5020-7A90-46AA-AD86-3C1EFACC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1C6DAD-6158-493A-A9ED-8CB83812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509A8F-94DB-4C5B-88B9-888E2DA0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8F5C74-CA55-4AFD-9CB3-F9BB04A9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30E4FB-FF6F-4E24-9194-314FFCA6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E5A449-9426-4588-8A92-46AE899A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D7B4DE-C42C-4CA5-83C2-62903D91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981D4D-C439-491B-BF69-A2DF32F4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CB5768-98DF-4CF7-BE6B-0330E12F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0C5B2-EF28-463A-9A2E-5C9345E8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1E6D92-8F0F-48A3-8745-53E52D9F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55F513-3979-4089-AF1B-B1A0F8E5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8A7ECC-D758-438E-BEC7-AFCC3876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F1FAB-D97C-4619-9F6D-42A0A397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9EBFF-A97B-4EDB-B79C-C9EBA3C1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2B96A-6DFB-44E4-88B3-BBF7C426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B006D-B698-4DF0-A801-52EDB7EB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3786-5E92-4489-A8EE-9534EEC5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A03C6-BB75-4514-94EB-8E495CA5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D2700-FE6A-4F68-8B40-C87C88A3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41E39-3568-4D93-A90B-EFC7C44D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E46BE-033E-4CF7-894F-41378486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B7E2D-4507-412B-868F-8E7F1165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87246-25B9-4282-A9A4-71EC7ADF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6ADAA-7B27-40D9-BE56-62A206A9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85BBF-9CD9-4DC0-9D3C-DAA452C4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C6FC5-CFE1-4BF8-B86B-B386945A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88B47-0D53-467D-81B3-6A33CBE2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E594-0F3D-43DD-8794-88F96AA4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DBD70-64F1-45D6-9D3A-4230F9E7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8839A-12BD-4C16-B7D3-67A29C38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312FA-335D-4925-8D99-BFC51E33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C709C-6030-4C09-84AC-8BD56EA0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0ACB1-3E00-4410-BB97-10BB8472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B2807-0716-47E2-8866-DDB5EC6A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2B3DC-4891-4A77-9C76-0C64BD48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86B1A-44F1-452F-B9CD-B74984D8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86C87-1E0B-4737-9522-F5226468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07E76-1295-4F53-A13F-1411036D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EE18-ECE7-43FB-87F8-BB740821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A4B50-EE69-47D6-B97B-36F3B38F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4A0A0-29CA-4507-A463-8E4FCFD2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85B28-A48E-45FE-8A20-8F012E03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23653-8AD9-4965-96B2-B2F74983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980F8-3C20-424F-88CE-DA9E751A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9BA6B-6252-4AF7-8795-58F35463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9770D-7BA0-4BBB-B9A3-292F4B8E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A9C35-958F-44DE-BF6C-59485180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E5858-9001-42A5-AC48-86052E32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1B75B-B266-4CF4-BF65-CD5C2D54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F0E5-6B66-46F4-8003-6DCC9FB9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D3053-CF24-4420-B799-D7C4D9D0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4D510-19CE-4674-A82D-81B0426D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59326-5F8E-475D-9DCC-8C1896B9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75BDC-861E-4D8C-A1A2-15AEF56D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6CB2F-BEF1-42BB-9676-33788932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FBBE5-701F-48C7-8232-02BB092D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676BC-8169-4A00-8685-9C09A1B2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66123-A6F0-4027-BF9F-E06A2974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C81AB-788E-4509-88DC-983F69D2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FA400-D978-4095-B49F-7A464B83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55D8-0DA7-4B79-8AB1-7B04C8DB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77BD3-ABE5-46D6-B500-CD0C51B4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B7A42-129B-4A8C-8EFB-782BB868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CD37F-C41E-45D0-8D4F-76D3D759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DD0BE-9E4B-47DC-B39C-B1DAD651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2247D-858C-4BF2-80D3-A35943FD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2ECDD-BDD7-40B4-B9FE-741332CE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40BDF-A9C9-483E-9CEF-5B769D7E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ADE92-76BC-48E5-BF67-AD333A76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0702D-3F62-4F34-A804-00014770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E87EA-2438-49EF-BA80-13D77BB6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A8F0-B975-4A8B-9E8A-99A8FB81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FD1C1-2487-4DAB-B011-8540F749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53A1B-60CB-40E0-97CE-297CD960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8E2EC-E3B8-4BBC-B957-E47E8243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6F4D2-4121-4C87-867B-B015340F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C08C6-0C13-4C1B-83B5-CB1F29AE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AA72D-4C39-4A0C-8D57-7D1EC068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35934-44E1-4A6D-A178-345F5CAC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D3230-D9A2-40E0-BBB7-3B5D96F2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1CCB7-E250-47E9-A48A-974C2E12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875EC-8901-41AD-9BE9-92ACA81C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6633-D22A-46D0-BA8B-13A234F7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C367C-D4D1-42DA-90E6-5A715BF6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512F6-9E45-4E22-BB29-99F7432B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5C958-5AE2-4D34-8353-E37FDE9C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AE9A2-C151-4DDE-83A4-C9AAB312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46B34-7BDA-461D-BA11-47CD1245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4B828-6F4C-4528-BAD1-821AB6CF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3AD04-3F38-4CBA-9DA3-E357C940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0A64B-FFC4-441B-A75F-4D331059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CE314-70A5-41B8-8B7D-863DC0E6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69845-BDE6-4833-8F85-9D28BDFC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7EF5-E038-4613-8BB1-0E07F5A492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27A7-826A-44D2-8AB5-DD382D8EE5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2632-FE61-4681-ACA1-2BD111B41C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A344-2273-485A-9765-3E4A936EFC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C3FC-D6AB-4452-8831-896904D09E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1D03-8031-4BDD-A72A-7133021EB4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23A7-8F9B-4E8C-B1C0-1984210FE5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2632-E98C-4DA8-ACCF-0F11B6298C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06CA-6648-4E7E-8DEB-7E37B47ABF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30A5-83A4-445C-8E90-E9FDECC383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8375-B8AA-4A57-8E61-69D62763D3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3AFD-C19A-42F2-9F9A-84ACD5F3ED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DC58-B61C-43C7-98C6-67F8FCEA65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F300-329D-4018-B6F9-3997B644BE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4235-B85C-4B8C-BF1F-46A3D8F32E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2483-5F78-4B3D-BB82-E2C44E1E0D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B6B3-3FFA-4068-BA7E-121BD99320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8424-F76B-40D9-ACA1-4B12D3188A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0645-C579-4BF9-9CD8-58838E734A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CC72-6A16-4A3D-9E3D-ED8C977CCA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CA3A-0D0B-4FC2-BAD3-35DDBCC3A2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1E54-5188-4749-B06C-889B58CAD3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C8A1-8515-4A64-9136-B4E33ED12A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0F50-A624-48FB-BFB4-A01AE0273C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0AED-0940-42EB-BD6E-6D9C5C4648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7CBE-1B99-4AFB-9D29-AA858C9FE6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B3A7-DA3C-446A-A618-7009F586EC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2036-EF67-4543-A1E3-56403FD919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5370-B9F5-4097-B854-83D0E6A532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935F-27AD-4327-BB87-646B6DC8A3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8ABF-EC80-4BED-A80E-692207C81F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6870-F681-4CBA-B80A-21C2B8D431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BA7F-19B7-47FF-B51A-03D14C6533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6F93-38AF-43CB-B973-4171576361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9131-5BDC-4051-A8F2-551E5955C1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FA99-0D39-4C5E-878A-3BBDA7F80A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BCAD-D0E6-4653-884F-EE1957F691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8103-7D36-4E41-ABB6-945D6BA8EC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5493-FF00-439A-85E9-50C990EE33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39EE-6FA5-440D-A379-2C172A6A9B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052720" y="1844640"/>
            <a:ext cx="5038560" cy="124776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290600" y="3279600"/>
            <a:ext cx="656280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69633" descr=""/>
          <p:cNvPicPr/>
          <p:nvPr/>
        </p:nvPicPr>
        <p:blipFill>
          <a:blip r:embed="rId1"/>
          <a:stretch/>
        </p:blipFill>
        <p:spPr>
          <a:xfrm>
            <a:off x="1104840" y="981000"/>
            <a:ext cx="6934320" cy="2124000"/>
          </a:xfrm>
          <a:prstGeom prst="rect">
            <a:avLst/>
          </a:prstGeom>
          <a:ln w="0">
            <a:noFill/>
          </a:ln>
        </p:spPr>
      </p:pic>
      <p:pic>
        <p:nvPicPr>
          <p:cNvPr id="958" name="图片 69634" descr=""/>
          <p:cNvPicPr/>
          <p:nvPr/>
        </p:nvPicPr>
        <p:blipFill>
          <a:blip r:embed="rId2"/>
          <a:stretch/>
        </p:blipFill>
        <p:spPr>
          <a:xfrm>
            <a:off x="162000" y="3422520"/>
            <a:ext cx="8820000" cy="22384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4643280" y="1254240"/>
            <a:ext cx="576360" cy="7347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7365960" y="1268280"/>
            <a:ext cx="576360" cy="7351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4427640" y="2133720"/>
            <a:ext cx="576000" cy="7347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7553160" y="2276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7"/>
          <a:stretch/>
        </p:blipFill>
        <p:spPr>
          <a:xfrm>
            <a:off x="1677960" y="3860640"/>
            <a:ext cx="878040" cy="4939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8"/>
          <a:stretch/>
        </p:blipFill>
        <p:spPr>
          <a:xfrm>
            <a:off x="5003640" y="3759120"/>
            <a:ext cx="878040" cy="4939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9"/>
          <a:stretch/>
        </p:blipFill>
        <p:spPr>
          <a:xfrm>
            <a:off x="8028000" y="3789360"/>
            <a:ext cx="87804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0"/>
          <a:stretch/>
        </p:blipFill>
        <p:spPr>
          <a:xfrm>
            <a:off x="1849320" y="4724280"/>
            <a:ext cx="878040" cy="4939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1"/>
          <a:stretch/>
        </p:blipFill>
        <p:spPr>
          <a:xfrm>
            <a:off x="5364000" y="4653000"/>
            <a:ext cx="878040" cy="4935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2"/>
          <a:stretch/>
        </p:blipFill>
        <p:spPr>
          <a:xfrm>
            <a:off x="8180280" y="4653000"/>
            <a:ext cx="8780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19240" y="809640"/>
            <a:ext cx="8705520" cy="57150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6227640" y="350028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3203640" y="537372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642960" y="1557360"/>
            <a:ext cx="7858080" cy="37432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2195640" y="2205000"/>
            <a:ext cx="576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8373" descr=""/>
          <p:cNvPicPr/>
          <p:nvPr/>
        </p:nvPicPr>
        <p:blipFill>
          <a:blip r:embed="rId1"/>
          <a:stretch/>
        </p:blipFill>
        <p:spPr>
          <a:xfrm>
            <a:off x="299880" y="880920"/>
            <a:ext cx="854424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7352" descr=""/>
          <p:cNvPicPr/>
          <p:nvPr/>
        </p:nvPicPr>
        <p:blipFill>
          <a:blip r:embed="rId1"/>
          <a:stretch/>
        </p:blipFill>
        <p:spPr>
          <a:xfrm>
            <a:off x="609480" y="890640"/>
            <a:ext cx="7925040" cy="55627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971640" y="1498680"/>
            <a:ext cx="748800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826920" y="3357720"/>
            <a:ext cx="748836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971640" y="3948120"/>
            <a:ext cx="748800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898560" y="4581360"/>
            <a:ext cx="7488360" cy="493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1042920" y="5172120"/>
            <a:ext cx="7488360" cy="493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1042920" y="5776920"/>
            <a:ext cx="7488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6324" descr=""/>
          <p:cNvPicPr/>
          <p:nvPr/>
        </p:nvPicPr>
        <p:blipFill>
          <a:blip r:embed="rId1"/>
          <a:stretch/>
        </p:blipFill>
        <p:spPr>
          <a:xfrm>
            <a:off x="276120" y="708120"/>
            <a:ext cx="8591760" cy="61056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2916360" y="6049800"/>
            <a:ext cx="115092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4572000" y="4365720"/>
            <a:ext cx="1150920" cy="493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6443640" y="5243400"/>
            <a:ext cx="1441440" cy="493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2700360" y="3500280"/>
            <a:ext cx="1441440" cy="493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6"/>
          <a:stretch/>
        </p:blipFill>
        <p:spPr>
          <a:xfrm>
            <a:off x="4356000" y="3500280"/>
            <a:ext cx="1441440" cy="4939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7"/>
          <a:stretch/>
        </p:blipFill>
        <p:spPr>
          <a:xfrm>
            <a:off x="6156360" y="3500280"/>
            <a:ext cx="1800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5300" descr=""/>
          <p:cNvPicPr/>
          <p:nvPr/>
        </p:nvPicPr>
        <p:blipFill>
          <a:blip r:embed="rId1"/>
          <a:stretch/>
        </p:blipFill>
        <p:spPr>
          <a:xfrm>
            <a:off x="200160" y="789120"/>
            <a:ext cx="8743680" cy="59529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763640" y="4508640"/>
            <a:ext cx="439272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1332000" y="5084640"/>
            <a:ext cx="439236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1116000" y="5661000"/>
            <a:ext cx="5256360" cy="49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1042920" y="6208560"/>
            <a:ext cx="525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4276" descr=""/>
          <p:cNvPicPr/>
          <p:nvPr/>
        </p:nvPicPr>
        <p:blipFill>
          <a:blip r:embed="rId1"/>
          <a:stretch/>
        </p:blipFill>
        <p:spPr>
          <a:xfrm>
            <a:off x="614520" y="1962000"/>
            <a:ext cx="7914960" cy="29340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971640" y="3213000"/>
            <a:ext cx="468000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826920" y="3803760"/>
            <a:ext cx="7848720" cy="493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684360" y="4379760"/>
            <a:ext cx="7848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2231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7858080" cy="3714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755640" y="2809800"/>
            <a:ext cx="6048360" cy="4939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684360" y="3357720"/>
            <a:ext cx="6048360" cy="493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755640" y="3975120"/>
            <a:ext cx="604836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684360" y="4522680"/>
            <a:ext cx="8208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35:1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